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D7E-54DC-4730-9E97-8B7ED52DC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E35-42AE-40AB-B8A5-D49EDD07C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5BE-F52E-4D80-9704-34A8FCFF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CCE-56A7-4D21-979C-54A3677B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FFE-17AC-4879-BB2B-41FD6D7C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439-AF57-4025-AF59-ABFC28F0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65D-7ECB-4E49-B166-AA3138F1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2C3-C522-428B-8DCA-88FFDCAB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8BB-91C0-4B5F-B470-64FFEB7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756-6080-4A69-9FE0-ADEE6E4F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614-EDF2-402E-9429-E9FFA87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5FD-06E1-4217-B727-32AD4B0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4CE-F1C5-461A-9107-C088C87A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20C-DF5C-424B-8360-3C48E2E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едведева Елена Евген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25C4-13E7-4500-B467-55E7F4F6AB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861D-CA8E-433E-91F9-5227243FC2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WordArt 7"/>
          <p:cNvSpPr txBox="1"/>
          <p:nvPr/>
        </p:nvSpPr>
        <p:spPr>
          <a:xfrm>
            <a:off x="762120" y="3581280"/>
            <a:ext cx="76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КАК ПИСАТЬ</a:t>
            </a:r>
            <a:endParaRPr b="0" lang="en-US" sz="1800" spc="1" strike="noStrike">
              <a:ln w="1908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СОЧИНЕНИЕ-РАССУЖДЕНИЕ.</a:t>
            </a:r>
            <a:endParaRPr b="0" lang="en-US" sz="1800" spc="1" strike="noStrike">
              <a:ln w="1908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1143000" y="228600"/>
            <a:ext cx="7372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русского языка в 9 классе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99B0-711D-441A-9468-A6830F5FE4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8"/>
          <p:cNvSpPr/>
          <p:nvPr/>
        </p:nvSpPr>
        <p:spPr>
          <a:xfrm>
            <a:off x="380880" y="1752480"/>
            <a:ext cx="8534520" cy="3353040"/>
          </a:xfrm>
          <a:prstGeom prst="flowChartPunchedCard">
            <a:avLst/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1523880" y="228600"/>
            <a:ext cx="620100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в парах или группах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228600" y="6854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в данных текстах определите стилевую принадлежность. Обоснуйте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33520" y="2225880"/>
            <a:ext cx="838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ИТУЦИЯ (от лат. constitutio — устройство),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основные права и обязанности граждан. Конституция — основа всего текущего законодательства. Первой в Советском государстве была Конституция РСФСР 1918. Действует Конституция Российской Федерации, принятая на референдуме 12 декабря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Энциклопедия Кирилла и Мефо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D0C1-E5BC-4DEC-A1F2-7859FB243C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>
            <a:off x="380880" y="1752480"/>
            <a:ext cx="8534520" cy="4191120"/>
          </a:xfrm>
          <a:prstGeom prst="flowChartPunchedCard">
            <a:avLst/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523880" y="228600"/>
            <a:ext cx="620100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в парах или группах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28600" y="6854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в данных текстах определите стилевую принадлежность. Обоснуйте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33520" y="2220120"/>
            <a:ext cx="83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…Ленского он убил просто от хандры, почем знать, может быть от хандры по мировому идеалу, - это слишком по-нашему, это вероятно. Не такова Татьяна: это тип твердый, стоящий твердо на своей почве. Она глубже Онегина и, конечно, умнее его. Она уже одним благородным инстинктом своим предчувствует, где и в чем правда, что и выразилось в финале. Может быть, Пушкин даже лучше бы сделал, если бы назвал свою поэму именем Татьяны, а не Онегина, ибо бесспорно она – главная героиня поэмы. Это положительный тип…, это – апофеоз русской женщины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из речи Ф.М.Достоевского на засед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ства любителей русской словесности при открытии памятника Пушкину /скульптор А.М.Опекушин/ 8 июня 1880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1FB4-57CE-48D2-B001-B48BC787D1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Фотографии 1 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762120" y="380880"/>
            <a:ext cx="5181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ЕМ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AFF-5A89-4FD0-9B99-C188122F9C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04920" y="1367280"/>
            <a:ext cx="883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уждение – это словесное излож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зъяснение, под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кой-либо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уждение - очень важный тип ре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бы убедить другого в чем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ужно уметь рассуждать, доказы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логически мысл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лать обдуманны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о же умение необходим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тобы опровергнуть точку зрения оппонен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которым вы не согл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BOOK2"/>
          <p:cNvPicPr/>
          <p:nvPr/>
        </p:nvPicPr>
        <p:blipFill>
          <a:blip r:embed="rId2"/>
          <a:stretch/>
        </p:blipFill>
        <p:spPr>
          <a:xfrm>
            <a:off x="7238880" y="5029200"/>
            <a:ext cx="168444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914400" y="609480"/>
            <a:ext cx="7315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Что такое рассуждение?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EE47-88B0-4335-AA2E-2D4ADB0C83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914400" y="2819520"/>
            <a:ext cx="7848720" cy="22096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14400" y="1523880"/>
            <a:ext cx="7848720" cy="990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914400" y="5181480"/>
            <a:ext cx="7848720" cy="1447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ffffff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1143000" y="1828800"/>
            <a:ext cx="22287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1.ТЕЗИ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3886200" y="1981080"/>
            <a:ext cx="421020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/высказывание какой-либо мысли/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1371600" y="55627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3.ВЫВОД, ЗАКЛЮЧ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371600" y="3124080"/>
            <a:ext cx="624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2.ДОКАЗАТЕЛЬ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533520" y="457200"/>
            <a:ext cx="838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1f497d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ПОСТРОЕНИЯ РАССУЖДЕНИЯ.</a:t>
            </a:r>
            <a:endParaRPr b="0" lang="en-US" sz="1800" spc="1" strike="noStrike">
              <a:ln w="19080">
                <a:solidFill>
                  <a:srgbClr val="1f497d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1295280" y="3886200"/>
            <a:ext cx="693432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/или опровержение/ этой мысли, то есть примеры и аргумен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1600200" y="4267080"/>
            <a:ext cx="83808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) 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13"/>
          <p:cNvSpPr txBox="1"/>
          <p:nvPr/>
        </p:nvSpPr>
        <p:spPr>
          <a:xfrm>
            <a:off x="1600200" y="4572000"/>
            <a:ext cx="838080" cy="3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)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CDD1-68E0-4E51-A7A7-9030D2BDDC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57200" y="2438280"/>
            <a:ext cx="8686800" cy="1828800"/>
          </a:xfrm>
          <a:custGeom>
            <a:avLst/>
            <a:gdLst>
              <a:gd name="textAreaLeft" fmla="*/ 0 w 8686800"/>
              <a:gd name="textAreaRight" fmla="*/ 8687160 w 8686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ксте  между тезисом и арг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анавл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рамматическ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BOOK2"/>
          <p:cNvPicPr/>
          <p:nvPr/>
        </p:nvPicPr>
        <p:blipFill>
          <a:blip r:embed="rId2"/>
          <a:stretch/>
        </p:blipFill>
        <p:spPr>
          <a:xfrm>
            <a:off x="0" y="4495680"/>
            <a:ext cx="217476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1981080" y="990720"/>
            <a:ext cx="4114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FDC-4DAC-4F87-97ED-626C917E1A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80880" y="1753560"/>
            <a:ext cx="7239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ысловая связ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е приводимые факты должны быть убедительны для каждого и подтверждать именно выдвинутый вами тези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, аргумент – самое бесспорное доказ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раведливо говоря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Поставить перед фактом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914400" y="685800"/>
            <a:ext cx="6381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ЛОГИЧЕСКАЯ СВЯЗЬ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10" descr="TENDRIL"/>
          <p:cNvPicPr/>
          <p:nvPr/>
        </p:nvPicPr>
        <p:blipFill>
          <a:blip r:embed="rId2"/>
          <a:stretch/>
        </p:blipFill>
        <p:spPr>
          <a:xfrm rot="10800000">
            <a:off x="6629040" y="1828800"/>
            <a:ext cx="2514600" cy="4835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6CE3-C8FD-4F09-BAA8-D57B591065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533520" y="1601280"/>
            <a:ext cx="65865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05"/>
              <a:buBlip>
                <a:blip r:embed="rId2"/>
              </a:buBlip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вод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-первых, во-вторых, в-треть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конец, следовательно, итак, таким обра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05"/>
              <a:buBlip>
                <a:blip r:embed="rId3"/>
              </a:buBlip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союзы и союз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ако, хотя, несмотря на, потому что, так как, ввиду того что, вследствие того что, благодаря тому что, в то время как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914400" y="9907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ГРАММАТИЧЕСКАЯ СВЯЗЬ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7" descr="TENDRIL"/>
          <p:cNvPicPr/>
          <p:nvPr/>
        </p:nvPicPr>
        <p:blipFill>
          <a:blip r:embed="rId4"/>
          <a:stretch/>
        </p:blipFill>
        <p:spPr>
          <a:xfrm rot="10800000">
            <a:off x="6705360" y="2022480"/>
            <a:ext cx="2438280" cy="4835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F5D4-1D55-467E-9F6F-D839886103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228600" y="6854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: из предложенных текстов выберите текст-рассуждение. Обоснуйте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371600" y="1447920"/>
            <a:ext cx="7543800" cy="2209680"/>
          </a:xfrm>
          <a:prstGeom prst="flowChartDocumen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В чем самая большая цель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думаю: увеличивать добро в окружающем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ро – это прежде всего счастье все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о слагается из многого, и каждый раз жизнь став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 человеком задачу, которую важно уметь ре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е начинается с мелочей, зарождается в дет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1523880" y="228600"/>
            <a:ext cx="620100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в парах или группах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33520" y="3809880"/>
            <a:ext cx="8229600" cy="2667240"/>
          </a:xfrm>
          <a:prstGeom prst="flowChartDocumen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угачев  сидел в креслах на крыльце комендантского д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м был красный казацкий кафтан, обшитый галу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ая соболья шапка с золотыми кистями  была надвин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его сверкающие глаза. Лицо его показалось мне знако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гачев грозно взглянул на старика и сказа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ты смел противиться мне, своему государю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гачев мрачно нахмурился и махнул белым плат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2E83-891A-498C-AFCB-811595580B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6854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: из предложенных текстов выберите текст-рассуждение. Обоснуйте свою точку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371600" y="1447920"/>
            <a:ext cx="7543800" cy="2209680"/>
          </a:xfrm>
          <a:prstGeom prst="flowChartDocumen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В 1765 году впервые во множестве появились самозван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его недолгое царствование. Наиболее напря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це 1760-х годов была обстановка на южном Урал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падной Сибири и Поволж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523880" y="228600"/>
            <a:ext cx="620100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в парах или группах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33520" y="3733920"/>
            <a:ext cx="8229600" cy="2743200"/>
          </a:xfrm>
          <a:prstGeom prst="flowChartDocumen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Древняя истина гласит: «Жизнь коротка, искусство вечн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тельно, непревзойденные шедевры миро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а, которым суждена вечная жизнь, созда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ротяжении многих тысячеле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ительный бег времени, смена поко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йны, переоценка ценностей и НТ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изменили представлений человека о вечных ист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духовных идеалах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7D0-ADE6-4C93-A500-747CD97E3F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182520"/>
          <a:ext cx="8915400" cy="5913360"/>
        </p:xfrm>
        <a:graphic>
          <a:graphicData uri="http://schemas.openxmlformats.org/drawingml/2006/table">
            <a:tbl>
              <a:tblPr/>
              <a:tblGrid>
                <a:gridCol w="1828800"/>
                <a:gridCol w="3079800"/>
                <a:gridCol w="4006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40c22"/>
                          </a:solidFill>
                          <a:latin typeface="Georgia"/>
                          <a:ea typeface="Times New Roman"/>
                        </a:rPr>
                        <a:t>Научный сти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40c22"/>
                          </a:solidFill>
                          <a:latin typeface="Georgia"/>
                          <a:ea typeface="Times New Roman"/>
                        </a:rPr>
                        <a:t>Публицистический сти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фера употреб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чебники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учные  стат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азетные и журнальные статьи, телеэфир, выступления на ми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кстра-лингвист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еские особ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ясность изложения, точность, недвусмысленность, логичность, доказательность, аргументированность, обобщен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ередование экспрессии и стандарта, оценочного и доказательного, доходчивость, диалогизация – обращение к читателю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вторское «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ексическ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термины, слова в прямом значении, нейтральная лексика, нет образны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моционально-экспрессивные слова, вместе с книжными словами употребляются разговорны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лишированные фра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рфологи-ческ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ало глаголов, это именной сти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зные части речи, много местоимений, помогающих представить проблему как личную – это способ воздействия на чит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интакс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еск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едложения развернутые, сложносочиненные, сложноподчиненные, служащие для раскрытия логики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478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зные по структуре  и интонации предложения (простые и сложные, вопросительные, восклицательны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19:13Z</dcterms:created>
  <dc:creator>Елена Евгеньевна</dc:creator>
  <dc:description/>
  <dc:language>en-US</dc:language>
  <cp:lastModifiedBy>User</cp:lastModifiedBy>
  <dcterms:modified xsi:type="dcterms:W3CDTF">2009-11-19T11:41:1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